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207A-C7C8-4AA8-AE0D-AD5EDA6C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781E-F8C3-4E41-B38D-ADB0EB64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A5EA-EEF4-4633-8D3B-4313A9B91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618C-B363-4681-96D8-3F68D6D22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859B-F941-46BB-96B3-9CBFEE7B9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FE09-FA5B-4DD6-96D1-25B0E3D2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3D67-08D4-4643-84C0-E8AAD19E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E53B-5868-46F2-99FA-C95EB93D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B30E-DD8D-4C8C-AF45-DADD33EA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5088-855A-4A2F-9D94-BD0CD6EA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E26D-E473-4094-8035-B7000B8B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A3ED-1FEF-4560-A77F-218A2A87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CD00-8BD5-40E2-AE1C-4EE7A34B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0335-27FA-42B3-A651-8D25BE02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B80C-E548-4FCE-A477-5F57F1BA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AAC5-A166-4844-954A-00D8C320F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8739-3D07-439D-B227-D1E18BF13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0966-9A6B-435A-916F-ADCBBCAC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F23E-5157-43F3-A3A4-F7DAC35E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8D29-B7B0-4979-B05D-A62176DD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63CD-1CB0-42AE-95CD-090EBA6B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5CEC-0DE4-4EEE-B860-18755422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488E-536B-4DD1-A507-4A848AC3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9035-3C77-467A-9B35-0E8CD984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DA63-9BCC-4AB7-9B78-5FFF08EF023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43640" cy="1413000"/>
            <a:chOff x="0" y="0"/>
            <a:chExt cx="9143640" cy="14130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43640" cy="141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914364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1413000"/>
              <a:ext cx="914364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0" cy="1413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3640" y="0"/>
              <a:ext cx="0" cy="1413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435640" y="260280"/>
            <a:ext cx="3403440" cy="928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9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6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0B8D-2EBB-4C27-A359-E2A82BFAF0E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95280" y="14907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Sc ADVANCED PRACTICE (HEALTH &amp; SOCIAL CA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71640" y="2637000"/>
            <a:ext cx="7700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Collaboration betwe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eater Manchester Strategic Health Authority (as part of its Delivering the Workforce Projec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eater Manchester NHS Tru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iversity of Bol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iversity of Salf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 NHS Organisations e.g. G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cial Care organis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itical Evaluation Evidence and Practi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55640" y="2133720"/>
          <a:ext cx="7920000" cy="4467240"/>
        </p:xfrm>
        <a:graphic>
          <a:graphicData uri="http://schemas.openxmlformats.org/drawingml/2006/table">
            <a:tbl>
              <a:tblPr/>
              <a:tblGrid>
                <a:gridCol w="3311640"/>
                <a:gridCol w="4608360"/>
              </a:tblGrid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606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tical appraisal of the evidence base behind literature and practice relevant to your field of practic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raise the evidence base on delivery of care in your area of practice, drawing on a wide range of data, including influential guidelines (e.g. National Service Frameworks) and legal principles, and integrate your findings into care desig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41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ring &amp; developing a body of evidence relevant to your practi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raise different interventions for patients in specific situations, and appropriately apply them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34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tiquing and developing practi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llenge current approaches to recognising patterns of illness and injury in clients with complex care needs, proposing and designing new method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79992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les of Advanced  Practi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684360" y="2492280"/>
          <a:ext cx="8002440" cy="3789360"/>
        </p:xfrm>
        <a:graphic>
          <a:graphicData uri="http://schemas.openxmlformats.org/drawingml/2006/table">
            <a:tbl>
              <a:tblPr/>
              <a:tblGrid>
                <a:gridCol w="2735280"/>
                <a:gridCol w="5267160"/>
              </a:tblGrid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ultation skil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 or refine approaches to identifying clients in ill health states  and apply these effectively in practic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essment of health and social nee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tically appraise existing tools, or design new tools, to enable a comprehensive, systematic and accurate assessment of the physical, psychological, social and spiritual needs of a client in your area of practi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nical decision mak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des expert consultancy on symptom control and management of clients with complex care need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LECTIVE MODU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ublic Health and Health Promotion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olistic approach in the Primary care context. Public health and health promotion, working with individuals, families and the commun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agement of Clinical C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velop competence in a chosen area, to enhance care and programme management. The area chosen determined by an NSF framework, or equivalent e.g. Diabetes, Palliative Care, Respiratory Care or Coronary Heart Dis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egotiated Learning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lows learner to define, develop and demonstrate specific learning on an aspect of their ro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42920" y="1557360"/>
            <a:ext cx="68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earch Dissertation/Proj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24000" y="1989000"/>
          <a:ext cx="8362800" cy="4754880"/>
        </p:xfrm>
        <a:graphic>
          <a:graphicData uri="http://schemas.openxmlformats.org/drawingml/2006/table">
            <a:tbl>
              <a:tblPr/>
              <a:tblGrid>
                <a:gridCol w="4751280"/>
                <a:gridCol w="3611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tically appraise and present evidence and theory from differing perspectiv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ify the boundaries of practice by making properly considered decisions to identify the level of responsibility and risk taking involved in AP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d in the development of inter-professional, inter-agency working to facilitate care pathways for vulnerable client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d in developments within own sphere of practice on a regional or national basi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tically analyse evidence and anticipate the direction in which your practice will progres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fy knowledge availabl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mulate proposals for the utilisation of knowledge for practice and or service development within your practi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tically analyse how knowledge may be transferred, utilised and transformed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tically reflect on yours and others role  in facilitating and evaluating outcom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0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tically evaluate the organisational and other contextual factors that contribute to innovation and how you can work with others to enhance service provis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187280" y="1700280"/>
            <a:ext cx="6553440" cy="4465440"/>
          </a:xfrm>
          <a:prstGeom prst="ellipse">
            <a:avLst/>
          </a:prstGeom>
          <a:solidFill>
            <a:srgbClr val="0082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11280" y="1989000"/>
            <a:ext cx="4114800" cy="2667240"/>
          </a:xfrm>
          <a:prstGeom prst="ellipse">
            <a:avLst/>
          </a:prstGeom>
          <a:solidFill>
            <a:srgbClr val="0082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16080" y="3141720"/>
            <a:ext cx="28800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ffff"/>
                </a:solidFill>
                <a:latin typeface="Arial"/>
              </a:rPr>
              <a:t>Advanced Practitio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92360" y="4724280"/>
            <a:ext cx="208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arning Facilit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492360" y="2205000"/>
            <a:ext cx="16765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ice Mana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916360" y="5157720"/>
            <a:ext cx="3063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Education Collaborativ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63800" y="3790800"/>
            <a:ext cx="15238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n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92600" y="3790800"/>
            <a:ext cx="14479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ssesso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9800" y="3575160"/>
            <a:ext cx="228600" cy="287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460680" y="3519000"/>
            <a:ext cx="177840" cy="3279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73280" y="4151160"/>
            <a:ext cx="2286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5149440" y="4078440"/>
            <a:ext cx="15228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87680" y="350208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87680" y="2637000"/>
            <a:ext cx="76320" cy="504720"/>
          </a:xfrm>
          <a:prstGeom prst="downArrow">
            <a:avLst>
              <a:gd name="adj1" fmla="val 50000"/>
              <a:gd name="adj2" fmla="val 165330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39920" y="2854440"/>
            <a:ext cx="11430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EI Student suppo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583320" y="2925720"/>
            <a:ext cx="1081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68000" y="1599840"/>
            <a:ext cx="8218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Quality Assurance Agency for Higher Education defines a masters degree in the following ter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ch of the study is at, or informed by,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he forefro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an academic or professional discipline. Students will have shown originality in the application of knowledge, and they will understand how the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oundarie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knowledge are advanced through research. They will be able to deal with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lex issues both systematically and creatively, and they will show original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tackling and solving problem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will have the qualities needed for employment in circumstances requiring sound judgement,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ersonal responsibility and initiative, in complex and unpredictable professional environment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dvanced Practitioner role works with lots of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undaries’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areas of knowledge, practice, roles and across organis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b46d0"/>
                </a:solidFill>
                <a:latin typeface="Arial"/>
              </a:rPr>
              <a:t>Advanced Practitioner – potential ro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46d0"/>
                </a:solidFill>
                <a:latin typeface="Arial"/>
              </a:rPr>
              <a:t>Potential Roles: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46d0"/>
                </a:solidFill>
                <a:latin typeface="Arial"/>
              </a:rPr>
              <a:t>Out of hours services: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b46d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46d0"/>
                </a:solidFill>
                <a:latin typeface="Arial"/>
              </a:rPr>
              <a:t>Emergency GP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b46d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46d0"/>
                </a:solidFill>
                <a:latin typeface="Arial"/>
              </a:rPr>
              <a:t>Acute hospit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b46d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46d0"/>
                </a:solidFill>
                <a:latin typeface="Arial"/>
              </a:rPr>
              <a:t>Community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46d0"/>
                </a:solidFill>
                <a:latin typeface="Arial"/>
              </a:rPr>
              <a:t>Walk in Cent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46d0"/>
                </a:solidFill>
                <a:latin typeface="Arial"/>
              </a:rPr>
              <a:t>Community matrons/active case manag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46d0"/>
                </a:solidFill>
                <a:latin typeface="Arial"/>
              </a:rPr>
              <a:t>Non medical treatment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46d0"/>
                </a:solidFill>
                <a:latin typeface="Arial"/>
              </a:rPr>
              <a:t>Treatment centres – </a:t>
            </a: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Diagnostic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Radiograp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46d0"/>
                </a:solidFill>
                <a:latin typeface="Arial"/>
              </a:rPr>
              <a:t>Community services: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b46d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Pharmacy one stop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b46d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Diagnostic care and treat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46d0"/>
                </a:solidFill>
                <a:latin typeface="Arial"/>
              </a:rPr>
              <a:t>Outcome driven: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b46d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Performance management targ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b46d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European working time direc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b46d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Modernising medical care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b46d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Maintaining services – shortage of G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b46d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Improving or expanding current services e.g. tier two in community [chronic diseases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advanced practitioner who has highly specialised or highly developed knowledge and skills beyond those which are required for registration, encompassing the breadth and depth of current and future professional pract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7402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IST ADVANCED PRACTITIO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Sc Advanced Practice (Health &amp; Social Ca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year work bas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ly tailored to practitioner role and assessment of competencies and a development portfol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 placed mentor &amp; assess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-profess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ed in practice by University employed Learning Facilit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E DIM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nical (8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 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etency driven with links to personal/professional development planning, portfolio development and achievement of core competenc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ced practice forms the continuum from practitioner to emergent consul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H. 2000 The NHS Plan, Lond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622080" y="1495080"/>
            <a:ext cx="7507800" cy="4511880"/>
            <a:chOff x="622080" y="1495080"/>
            <a:chExt cx="7507800" cy="4511880"/>
          </a:xfrm>
        </p:grpSpPr>
        <p:sp>
          <p:nvSpPr>
            <p:cNvPr id="174" name=""/>
            <p:cNvSpPr/>
            <p:nvPr/>
          </p:nvSpPr>
          <p:spPr>
            <a:xfrm>
              <a:off x="2922840" y="2356920"/>
              <a:ext cx="1263240" cy="59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rinciples of Advanced Practice (20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22840" y="3048120"/>
              <a:ext cx="1216440" cy="75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ritical Evaluation and Review (20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16840" y="3048120"/>
              <a:ext cx="1264320" cy="42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anaging Clinical Care (20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416840" y="2356920"/>
              <a:ext cx="1206000" cy="59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ublic Health &amp; Health Promotion (20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485360" y="1495080"/>
              <a:ext cx="1094760" cy="29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ffffff"/>
                  </a:solidFill>
                  <a:latin typeface="Arial"/>
                </a:rPr>
                <a:t>Semester 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14640" y="1512720"/>
              <a:ext cx="1824840" cy="29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ffffff"/>
                  </a:solidFill>
                  <a:latin typeface="Arial"/>
                </a:rPr>
                <a:t>Semester 2+ summer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75160" y="1495080"/>
              <a:ext cx="1094760" cy="29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ffffff"/>
                  </a:solidFill>
                  <a:latin typeface="Arial"/>
                </a:rPr>
                <a:t>Semester 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916360" y="1512720"/>
              <a:ext cx="1094760" cy="29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ffffff"/>
                  </a:solidFill>
                  <a:latin typeface="Arial"/>
                </a:rPr>
                <a:t>Semester 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57120" y="3794400"/>
              <a:ext cx="51696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83920" y="4311720"/>
              <a:ext cx="4427280" cy="30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oundations of Advanced Practice (40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27400" y="3565080"/>
              <a:ext cx="1272960" cy="66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pplication of Life Sciences for Advanced Practice (20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98840" y="4082400"/>
              <a:ext cx="1216440" cy="66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esearch Dissertation (60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75160" y="3565080"/>
              <a:ext cx="978120" cy="59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egotiated/ independent learning (20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53200" y="3966480"/>
              <a:ext cx="425520" cy="182160"/>
            </a:xfrm>
            <a:prstGeom prst="rightArrow">
              <a:avLst>
                <a:gd name="adj1" fmla="val 50000"/>
                <a:gd name="adj2" fmla="val 58399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27400" y="4656240"/>
              <a:ext cx="425520" cy="182160"/>
            </a:xfrm>
            <a:prstGeom prst="rightArrow">
              <a:avLst>
                <a:gd name="adj1" fmla="val 50000"/>
                <a:gd name="adj2" fmla="val 58399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95640" y="4656240"/>
              <a:ext cx="425520" cy="182160"/>
            </a:xfrm>
            <a:prstGeom prst="rightArrow">
              <a:avLst>
                <a:gd name="adj1" fmla="val 50000"/>
                <a:gd name="adj2" fmla="val 58399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37640" y="4368600"/>
              <a:ext cx="745920" cy="24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duc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91720" y="1667520"/>
              <a:ext cx="0" cy="3908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81520" y="1611000"/>
              <a:ext cx="0" cy="3908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301640" y="1667520"/>
              <a:ext cx="0" cy="3908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82520" y="1667520"/>
              <a:ext cx="0" cy="3908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53200" y="1955520"/>
              <a:ext cx="51696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ffffff"/>
                  </a:solidFill>
                  <a:latin typeface="Arial"/>
                </a:rPr>
                <a:t>Feb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05520" y="5059440"/>
              <a:ext cx="51696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ffffff"/>
                  </a:solidFill>
                  <a:latin typeface="Arial"/>
                </a:rPr>
                <a:t>Feb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015080" y="1955520"/>
              <a:ext cx="51696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ffffff"/>
                  </a:solidFill>
                  <a:latin typeface="Arial"/>
                </a:rPr>
                <a:t>Feb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52200" y="5059440"/>
              <a:ext cx="51696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ffffff"/>
                  </a:solidFill>
                  <a:latin typeface="Arial"/>
                </a:rPr>
                <a:t>Feb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53200" y="5059440"/>
              <a:ext cx="57528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ffffff"/>
                  </a:solidFill>
                  <a:latin typeface="Arial"/>
                </a:rPr>
                <a:t>Sep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545280" y="5034240"/>
              <a:ext cx="13528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ffffff"/>
                  </a:solidFill>
                  <a:latin typeface="Arial"/>
                </a:rPr>
                <a:t>Summer  + Sep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22200" y="1611000"/>
              <a:ext cx="0" cy="3908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05040" y="2012400"/>
              <a:ext cx="51696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ffffff"/>
                  </a:solidFill>
                  <a:latin typeface="Arial"/>
                </a:rPr>
                <a:t>Feb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2080" y="2012400"/>
              <a:ext cx="225360" cy="172080"/>
            </a:xfrm>
            <a:prstGeom prst="rightArrow">
              <a:avLst>
                <a:gd name="adj1" fmla="val 50000"/>
                <a:gd name="adj2" fmla="val 3274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0400" y="5117400"/>
              <a:ext cx="225360" cy="172080"/>
            </a:xfrm>
            <a:prstGeom prst="rightArrow">
              <a:avLst>
                <a:gd name="adj1" fmla="val 50000"/>
                <a:gd name="adj2" fmla="val 3274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12280" y="5634720"/>
              <a:ext cx="804960" cy="37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re modul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31360" y="5634720"/>
              <a:ext cx="574200" cy="22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Option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76480" y="1956600"/>
              <a:ext cx="135288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ffffff"/>
                  </a:solidFill>
                  <a:latin typeface="Arial"/>
                </a:rPr>
                <a:t>Summer  + Sep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77000" y="5034240"/>
              <a:ext cx="13528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ffffff"/>
                  </a:solidFill>
                  <a:latin typeface="Arial"/>
                </a:rPr>
                <a:t>Summer  + Sep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60720" y="1956600"/>
              <a:ext cx="13528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ffffff"/>
                  </a:solidFill>
                  <a:latin typeface="Arial"/>
                </a:rPr>
                <a:t>Summer  + Sep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ndations of Advanced Pract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042920" y="2708280"/>
          <a:ext cx="7643880" cy="3600360"/>
        </p:xfrm>
        <a:graphic>
          <a:graphicData uri="http://schemas.openxmlformats.org/drawingml/2006/table">
            <a:tbl>
              <a:tblPr/>
              <a:tblGrid>
                <a:gridCol w="3313080"/>
                <a:gridCol w="433080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431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p and evidence the characteristics of an Advanced Practitioner in your con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 expert in reflective, intuitive practi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monstrate reflective practice through the development of a progressive portfolio of evidence of your professional practice that depicts an Advanced Practitioner func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in your own sphere of practi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81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k towards the specific desired service outcomes relevant to their con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ify the boundaries of practice by making properly considered decisions to identify the level of responsibility and risk taking involved in Advanced Practice role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 of Life Sciences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39640" y="2781360"/>
          <a:ext cx="8147160" cy="2921040"/>
        </p:xfrm>
        <a:graphic>
          <a:graphicData uri="http://schemas.openxmlformats.org/drawingml/2006/table">
            <a:tbl>
              <a:tblPr/>
              <a:tblGrid>
                <a:gridCol w="2664000"/>
                <a:gridCol w="5483160"/>
              </a:tblGrid>
              <a:tr h="80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204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evant life scienc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ly advanced knowledge of pathophysiology to differentiate disease proces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ly extensive knowledge of anatomy, physiology and psychology to differentiate a wide range of patient presentations with complex care needs, to determine the appropriate diagnosi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b46d0"/>
                </a:solidFill>
                <a:latin typeface="Arial"/>
              </a:rPr>
              <a:t>Definition of generalist &amp; specia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7b46d0"/>
                </a:solidFill>
                <a:uFillTx/>
                <a:latin typeface="Arial"/>
              </a:rPr>
              <a:t>Specialist</a:t>
            </a:r>
            <a:r>
              <a:rPr b="0" lang="en-US" sz="3200" spc="-1" strike="noStrike">
                <a:solidFill>
                  <a:srgbClr val="7b46d0"/>
                </a:solidFill>
                <a:latin typeface="Arial"/>
              </a:rPr>
              <a:t> – someone who is trained in a particular branch of a prof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7b46d0"/>
                </a:solidFill>
                <a:uFillTx/>
                <a:latin typeface="Arial"/>
              </a:rPr>
              <a:t>Generalist</a:t>
            </a:r>
            <a:r>
              <a:rPr b="0" lang="en-US" sz="3200" spc="-1" strike="noStrike">
                <a:solidFill>
                  <a:srgbClr val="7b46d0"/>
                </a:solidFill>
                <a:latin typeface="Arial"/>
              </a:rPr>
              <a:t> – someone who is competent in several different fields or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53640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46d0"/>
                </a:solidFill>
                <a:latin typeface="Arial"/>
              </a:rPr>
              <a:t>Advanced Practitioners – Agenda for Change</a:t>
            </a:r>
            <a:r>
              <a:rPr b="1" lang="en-US" sz="2800" spc="-1" strike="noStrike">
                <a:solidFill>
                  <a:srgbClr val="7b46d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5257800"/>
            <a:ext cx="4572000" cy="60948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vanced Practitio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3124080"/>
            <a:ext cx="3276360" cy="167652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vanced Generalis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th Competencies in sev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fferent fields from acro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different prof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76920" y="3200400"/>
            <a:ext cx="3276360" cy="167652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vanced Specia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th Specialist skills with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wn profe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1905120"/>
            <a:ext cx="3276360" cy="91440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ultant Genera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1905120"/>
            <a:ext cx="3276360" cy="91440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ultant Specia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1828800"/>
            <a:ext cx="457200" cy="373392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743200" y="47242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172200" y="48006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5T09:23:00Z</dcterms:created>
  <dc:creator>alexh</dc:creator>
  <dc:description/>
  <dc:language>en-US</dc:language>
  <cp:lastModifiedBy>mum</cp:lastModifiedBy>
  <cp:lastPrinted>2001-01-30T14:36:23Z</cp:lastPrinted>
  <dcterms:modified xsi:type="dcterms:W3CDTF">2007-01-24T21:34:04Z</dcterms:modified>
  <cp:revision>61</cp:revision>
  <dc:subject/>
  <dc:title>No Slide Title</dc:title>
</cp:coreProperties>
</file>